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13.jpeg" ContentType="image/jpeg"/>
  <Override PartName="/ppt/media/image9.gif" ContentType="image/gif"/>
  <Override PartName="/ppt/media/image37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39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CE1-D2E4-4075-A954-4638ACB2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7E7-37D8-42B2-87B7-46E62FB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0A5-5309-4353-8BE1-D1F39E20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32C-C605-47E6-87C8-83EEA6D1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2963-D8DA-4CD5-9A53-FD71A34E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62A-C4CF-461A-AF2C-6022F733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147D-2857-490D-9592-5D5CAFF5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9294-A995-446A-B73F-3164A93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C3AF-9752-4323-B5F4-5FEFDD48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CAC0-A896-408F-9943-C2C7506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8D3C-5425-44A4-A64A-3F7334D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472-798A-4FEB-B21B-BC71860A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14D-5284-479D-95A3-1A553CA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4E76-EE08-4F41-AF28-BB347CF9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118A-E2CC-4910-9447-CA5B0B8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E136-FF60-4DE8-96FF-9A2CC28D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24EE-4BAB-400D-82A7-A648EA6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75A-4A90-4DAA-8694-8A99843E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D93-9ADA-415E-8AC9-EE15FB2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9A7-E07C-4FE6-BA4C-6EAE7FB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A10-4C18-421B-B8E4-4A4B14D7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A11-08CE-49E0-9EA4-CFE1F3B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933-ECD1-4023-80B9-B361880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276-9376-42EA-953A-1094F4F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78ED-8567-4923-B118-9F499029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D83-7DC3-4FF0-B3E0-50A9CA0BF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Action Button: Forward or Next 5">
            <a:hlinkClick r:id="rId1" action="ppaction://hlinksldjump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ing electrons to form a b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between nonmetals or metall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also occur between two atoms of the same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cov bond 1"/>
          <p:cNvPicPr/>
          <p:nvPr/>
        </p:nvPicPr>
        <p:blipFill>
          <a:blip r:embed="rId1"/>
          <a:stretch/>
        </p:blipFill>
        <p:spPr>
          <a:xfrm>
            <a:off x="0" y="5334120"/>
            <a:ext cx="4495680" cy="109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ov bond 2"/>
          <p:cNvPicPr/>
          <p:nvPr/>
        </p:nvPicPr>
        <p:blipFill>
          <a:blip r:embed="rId2"/>
          <a:stretch/>
        </p:blipFill>
        <p:spPr>
          <a:xfrm>
            <a:off x="4648320" y="5334120"/>
            <a:ext cx="44956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ovalent"/>
          <p:cNvPicPr/>
          <p:nvPr/>
        </p:nvPicPr>
        <p:blipFill>
          <a:blip r:embed="rId3"/>
          <a:stretch/>
        </p:blipFill>
        <p:spPr>
          <a:xfrm>
            <a:off x="5181480" y="3429000"/>
            <a:ext cx="281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a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electrons are shared in a chemical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alent bonds can be separated by polarity i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bonds- unequal sharing of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polar bonds- equal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polar bonds share the electrons equal amounts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olar bonds, one element is stronger than the other and controls the electrons for more of the time.  This cre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ipo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dipole"/>
          <p:cNvPicPr/>
          <p:nvPr/>
        </p:nvPicPr>
        <p:blipFill>
          <a:blip r:embed="rId1"/>
          <a:stretch/>
        </p:blipFill>
        <p:spPr>
          <a:xfrm>
            <a:off x="4114800" y="4419720"/>
            <a:ext cx="502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rity of a bond can be represented in three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bbl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al charg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ity arrow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ow always faces element with larger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partial charge"/>
          <p:cNvPicPr/>
          <p:nvPr/>
        </p:nvPicPr>
        <p:blipFill>
          <a:blip r:embed="rId1"/>
          <a:stretch/>
        </p:blipFill>
        <p:spPr>
          <a:xfrm>
            <a:off x="4038480" y="5305320"/>
            <a:ext cx="5105520" cy="15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bubbles"/>
          <p:cNvPicPr/>
          <p:nvPr/>
        </p:nvPicPr>
        <p:blipFill>
          <a:blip r:embed="rId2"/>
          <a:stretch/>
        </p:blipFill>
        <p:spPr>
          <a:xfrm>
            <a:off x="380880" y="525780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09480" y="609480"/>
            <a:ext cx="7925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ond length- distance betwe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 covalently bonded nucl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23623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ond angle- distance (in degree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etween 2 outer atoms in a compou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93760" y="4038480"/>
            <a:ext cx="67564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 Types of Bond M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4648320"/>
            <a:ext cx="4711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Symmetrical stretch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880" y="5334120"/>
            <a:ext cx="49658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Asymmetrical stretch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791320"/>
            <a:ext cx="2006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Bend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77120" y="6172200"/>
            <a:ext cx="20318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4. Rotat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76440" y="2362320"/>
            <a:ext cx="4191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tallic Bon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6280" y="457200"/>
            <a:ext cx="81914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lectrons pass freely from atom to atom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reating "sea of electrons," very loosely held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29200" y="3886200"/>
            <a:ext cx="3543480" cy="21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sponsible for: 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Malleabil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Ductil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Conductiv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47920" y="4952880"/>
            <a:ext cx="624816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termolecular Fo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6560" y="380880"/>
            <a:ext cx="7670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ole- a molecule wit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posite charges at either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38088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Dipole-dipol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9880" y="1447920"/>
            <a:ext cx="510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Dipole- Induced dipole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236232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London dispers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342900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4. Hydrogen bonding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 a compound without having to write th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the number of atoms in the 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wo typ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- metals with 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alent- nonmetals with 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ing Ionic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first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second element but add –ide to the end of the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  M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sium sulf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inc chlo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is assigned a charge number based on how many electrons are gained or lost by the elements in that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joined together that act as one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es come in three siz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two atom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3-100,000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over 100,000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led macromolec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large molecules cannot be seen with the naked ey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g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sition elements have individual charge 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Ionic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symbols for the elements in the comp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up the charges for each element and write them as superscripts behind the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 the numbers in an “X” until they are behind the other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fluo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 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alent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ing Covalent Comp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name of the first el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name of the second element but add –ide to the end of the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prefix that matches the subscript in the formul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prefix in front of the element’s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= t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triox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sen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f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= 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= 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rsenic trisulf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Covalent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rite the symbols for the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number that matches the prefix in the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umber as a subscript behind the appropriate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sulf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trogen pentachlo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 =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ta =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atomic 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of elements that act as one element in a 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yatomic ions are given special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ing compounds with polyatomic 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first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polyatomic ion on your sheet.  Write its name as it appears on the 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phosph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ssium permanga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Formulas with Polyatomic 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symbols for the element and the polyatomic 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charge number for the element and the polyatomic ion.  Write them as superscrip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 the charge numbers o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salt"/>
          <p:cNvPicPr/>
          <p:nvPr/>
        </p:nvPicPr>
        <p:blipFill>
          <a:blip r:embed="rId1"/>
          <a:stretch/>
        </p:blipFill>
        <p:spPr>
          <a:xfrm>
            <a:off x="5294160" y="1600200"/>
            <a:ext cx="274500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rbon3"/>
          <p:cNvPicPr/>
          <p:nvPr/>
        </p:nvPicPr>
        <p:blipFill>
          <a:blip r:embed="rId2"/>
          <a:srcRect l="14219" t="10417" r="14219" b="0"/>
          <a:stretch/>
        </p:blipFill>
        <p:spPr>
          <a:xfrm>
            <a:off x="4800600" y="4170240"/>
            <a:ext cx="26701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hydr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 nit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Rectangle 4" descr=""/>
          <p:cNvPicPr/>
          <p:nvPr/>
        </p:nvPicPr>
        <p:blipFill>
          <a:blip r:embed="rId1"/>
          <a:stretch/>
        </p:blipFill>
        <p:spPr>
          <a:xfrm>
            <a:off x="-128520" y="1066680"/>
            <a:ext cx="7065720" cy="115884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5" descr=""/>
          <p:cNvPicPr/>
          <p:nvPr/>
        </p:nvPicPr>
        <p:blipFill>
          <a:blip r:embed="rId2"/>
          <a:stretch/>
        </p:blipFill>
        <p:spPr>
          <a:xfrm>
            <a:off x="901800" y="1981080"/>
            <a:ext cx="8364600" cy="92736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6" descr=""/>
          <p:cNvPicPr/>
          <p:nvPr/>
        </p:nvPicPr>
        <p:blipFill>
          <a:blip r:embed="rId3"/>
          <a:stretch/>
        </p:blipFill>
        <p:spPr>
          <a:xfrm>
            <a:off x="23760" y="2876400"/>
            <a:ext cx="3743280" cy="94644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7" descr=""/>
          <p:cNvPicPr/>
          <p:nvPr/>
        </p:nvPicPr>
        <p:blipFill>
          <a:blip r:embed="rId4"/>
          <a:stretch/>
        </p:blipFill>
        <p:spPr>
          <a:xfrm>
            <a:off x="4900680" y="2955960"/>
            <a:ext cx="3120840" cy="94608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8" descr=""/>
          <p:cNvPicPr/>
          <p:nvPr/>
        </p:nvPicPr>
        <p:blipFill>
          <a:blip r:embed="rId5"/>
          <a:stretch/>
        </p:blipFill>
        <p:spPr>
          <a:xfrm>
            <a:off x="347760" y="3608280"/>
            <a:ext cx="2736720" cy="11289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9" descr=""/>
          <p:cNvPicPr/>
          <p:nvPr/>
        </p:nvPicPr>
        <p:blipFill>
          <a:blip r:embed="rId6"/>
          <a:stretch/>
        </p:blipFill>
        <p:spPr>
          <a:xfrm>
            <a:off x="5450040" y="3687840"/>
            <a:ext cx="20602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" name="Picture 2" descr="linear.gif"/>
          <p:cNvPicPr/>
          <p:nvPr/>
        </p:nvPicPr>
        <p:blipFill>
          <a:blip r:embed="rId1"/>
          <a:srcRect l="0" t="0" r="0" b="36533"/>
          <a:stretch/>
        </p:blipFill>
        <p:spPr>
          <a:xfrm>
            <a:off x="4114800" y="1828800"/>
            <a:ext cx="2209680" cy="380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lanar bent.gif"/>
          <p:cNvPicPr/>
          <p:nvPr/>
        </p:nvPicPr>
        <p:blipFill>
          <a:blip r:embed="rId2"/>
          <a:srcRect l="51830" t="0" r="0" b="8742"/>
          <a:stretch/>
        </p:blipFill>
        <p:spPr>
          <a:xfrm rot="14398200">
            <a:off x="4116960" y="2891160"/>
            <a:ext cx="2014560" cy="1695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planar bent.gif"/>
          <p:cNvPicPr/>
          <p:nvPr/>
        </p:nvPicPr>
        <p:blipFill>
          <a:blip r:embed="rId3"/>
          <a:srcRect l="0" t="0" r="50805" b="9750"/>
          <a:stretch/>
        </p:blipFill>
        <p:spPr>
          <a:xfrm>
            <a:off x="4419720" y="45720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4"/>
          <a:stretch/>
        </p:blipFill>
        <p:spPr>
          <a:xfrm>
            <a:off x="1212840" y="1463760"/>
            <a:ext cx="2146320" cy="85248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6" descr=""/>
          <p:cNvPicPr/>
          <p:nvPr/>
        </p:nvPicPr>
        <p:blipFill>
          <a:blip r:embed="rId5"/>
          <a:stretch/>
        </p:blipFill>
        <p:spPr>
          <a:xfrm>
            <a:off x="1365120" y="2987640"/>
            <a:ext cx="170208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7" descr=""/>
          <p:cNvPicPr/>
          <p:nvPr/>
        </p:nvPicPr>
        <p:blipFill>
          <a:blip r:embed="rId6"/>
          <a:stretch/>
        </p:blipFill>
        <p:spPr>
          <a:xfrm>
            <a:off x="695160" y="4968720"/>
            <a:ext cx="409608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trig bipyr.gif"/>
          <p:cNvPicPr/>
          <p:nvPr/>
        </p:nvPicPr>
        <p:blipFill>
          <a:blip r:embed="rId7"/>
          <a:srcRect l="0" t="0" r="50686" b="57354"/>
          <a:stretch/>
        </p:blipFill>
        <p:spPr>
          <a:xfrm>
            <a:off x="838080" y="1523880"/>
            <a:ext cx="2057400" cy="221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tet pyram bent.gif"/>
          <p:cNvPicPr/>
          <p:nvPr/>
        </p:nvPicPr>
        <p:blipFill>
          <a:blip r:embed="rId8"/>
          <a:srcRect l="0" t="0" r="66513" b="7202"/>
          <a:stretch/>
        </p:blipFill>
        <p:spPr>
          <a:xfrm>
            <a:off x="5562720" y="1600200"/>
            <a:ext cx="2009520" cy="214776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10" descr=""/>
          <p:cNvPicPr/>
          <p:nvPr/>
        </p:nvPicPr>
        <p:blipFill>
          <a:blip r:embed="rId9"/>
          <a:stretch/>
        </p:blipFill>
        <p:spPr>
          <a:xfrm>
            <a:off x="2517840" y="2152800"/>
            <a:ext cx="3254400" cy="84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tet pyram bent.gif"/>
          <p:cNvPicPr/>
          <p:nvPr/>
        </p:nvPicPr>
        <p:blipFill>
          <a:blip r:embed="rId10"/>
          <a:srcRect l="34291" t="0" r="31430" b="11106"/>
          <a:stretch/>
        </p:blipFill>
        <p:spPr>
          <a:xfrm>
            <a:off x="5867280" y="4114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12" descr=""/>
          <p:cNvPicPr/>
          <p:nvPr/>
        </p:nvPicPr>
        <p:blipFill>
          <a:blip r:embed="rId11"/>
          <a:stretch/>
        </p:blipFill>
        <p:spPr>
          <a:xfrm>
            <a:off x="1390680" y="4664160"/>
            <a:ext cx="4900680" cy="8524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13" descr=""/>
          <p:cNvPicPr/>
          <p:nvPr/>
        </p:nvPicPr>
        <p:blipFill>
          <a:blip r:embed="rId12"/>
          <a:stretch/>
        </p:blipFill>
        <p:spPr>
          <a:xfrm>
            <a:off x="3224160" y="2225520"/>
            <a:ext cx="532296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oct.gif"/>
          <p:cNvPicPr/>
          <p:nvPr/>
        </p:nvPicPr>
        <p:blipFill>
          <a:blip r:embed="rId13"/>
          <a:stretch/>
        </p:blipFill>
        <p:spPr>
          <a:xfrm>
            <a:off x="1371600" y="4340160"/>
            <a:ext cx="19810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6" descr=""/>
          <p:cNvPicPr/>
          <p:nvPr/>
        </p:nvPicPr>
        <p:blipFill>
          <a:blip r:embed="rId14"/>
          <a:stretch/>
        </p:blipFill>
        <p:spPr>
          <a:xfrm>
            <a:off x="3889440" y="4816440"/>
            <a:ext cx="3139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8" name="Rectangle 5" descr=""/>
          <p:cNvPicPr/>
          <p:nvPr/>
        </p:nvPicPr>
        <p:blipFill>
          <a:blip r:embed="rId1"/>
          <a:stretch/>
        </p:blipFill>
        <p:spPr>
          <a:xfrm>
            <a:off x="3902040" y="1755720"/>
            <a:ext cx="3632400" cy="115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mole.jpg"/>
          <p:cNvPicPr/>
          <p:nvPr/>
        </p:nvPicPr>
        <p:blipFill>
          <a:blip r:embed="rId2"/>
          <a:stretch/>
        </p:blipFill>
        <p:spPr>
          <a:xfrm>
            <a:off x="228600" y="1371600"/>
            <a:ext cx="3071880" cy="251604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8" descr=""/>
          <p:cNvPicPr/>
          <p:nvPr/>
        </p:nvPicPr>
        <p:blipFill>
          <a:blip r:embed="rId3"/>
          <a:stretch/>
        </p:blipFill>
        <p:spPr>
          <a:xfrm>
            <a:off x="378000" y="3121200"/>
            <a:ext cx="9083520" cy="154764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9" descr=""/>
          <p:cNvPicPr/>
          <p:nvPr/>
        </p:nvPicPr>
        <p:blipFill>
          <a:blip r:embed="rId4"/>
          <a:stretch/>
        </p:blipFill>
        <p:spPr>
          <a:xfrm>
            <a:off x="-23760" y="1268280"/>
            <a:ext cx="9313920" cy="110988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11" descr=""/>
          <p:cNvPicPr/>
          <p:nvPr/>
        </p:nvPicPr>
        <p:blipFill>
          <a:blip r:embed="rId5"/>
          <a:stretch/>
        </p:blipFill>
        <p:spPr>
          <a:xfrm>
            <a:off x="1865160" y="4164120"/>
            <a:ext cx="642492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12" descr=""/>
          <p:cNvPicPr/>
          <p:nvPr/>
        </p:nvPicPr>
        <p:blipFill>
          <a:blip r:embed="rId6"/>
          <a:stretch/>
        </p:blipFill>
        <p:spPr>
          <a:xfrm>
            <a:off x="2475000" y="3249720"/>
            <a:ext cx="6699240" cy="1109520"/>
          </a:xfrm>
          <a:prstGeom prst="rect">
            <a:avLst/>
          </a:prstGeom>
          <a:ln w="0">
            <a:noFill/>
          </a:ln>
        </p:spPr>
      </p:pic>
      <p:sp>
        <p:nvSpPr>
          <p:cNvPr id="234" name="Up Arrow 13"/>
          <p:cNvSpPr/>
          <p:nvPr/>
        </p:nvSpPr>
        <p:spPr>
          <a:xfrm>
            <a:off x="5334120" y="2362320"/>
            <a:ext cx="914400" cy="99036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707e7"/>
                                      </p:to>
                                    </p:animClr>
                                    <p:animClr clrSpc="rgb">
                                      <p:cBhvr>
                                        <p:cTn id="8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707e7"/>
                                      </p:to>
                                    </p:animClr>
                                    <p:set>
                                      <p:cBhvr>
                                        <p:cTn id="8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38080" y="5715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: What do you get when you have a bunch of moles acting like idiots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 bunch of Moleas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7" name="Rectangle 5" descr=""/>
          <p:cNvPicPr/>
          <p:nvPr/>
        </p:nvPicPr>
        <p:blipFill>
          <a:blip r:embed="rId1"/>
          <a:stretch/>
        </p:blipFill>
        <p:spPr>
          <a:xfrm>
            <a:off x="1878120" y="2786040"/>
            <a:ext cx="61754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um 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sucroseBSN75"/>
          <p:cNvPicPr/>
          <p:nvPr/>
        </p:nvPicPr>
        <p:blipFill>
          <a:blip r:embed="rId1"/>
          <a:stretch/>
        </p:blipFill>
        <p:spPr>
          <a:xfrm>
            <a:off x="5132520" y="1600200"/>
            <a:ext cx="306864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Viz2_s"/>
          <p:cNvPicPr/>
          <p:nvPr/>
        </p:nvPicPr>
        <p:blipFill>
          <a:blip r:embed="rId2"/>
          <a:stretch/>
        </p:blipFill>
        <p:spPr>
          <a:xfrm>
            <a:off x="5038560" y="3941640"/>
            <a:ext cx="32562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1426004_75"/>
          <p:cNvPicPr/>
          <p:nvPr/>
        </p:nvPicPr>
        <p:blipFill>
          <a:blip r:embed="rId3"/>
          <a:stretch/>
        </p:blipFill>
        <p:spPr>
          <a:xfrm>
            <a:off x="1447920" y="3962520"/>
            <a:ext cx="2438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olecules (macromolecu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adeno3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206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na25"/>
          <p:cNvPicPr/>
          <p:nvPr/>
        </p:nvPicPr>
        <p:blipFill>
          <a:blip r:embed="rId2"/>
          <a:stretch/>
        </p:blipFill>
        <p:spPr>
          <a:xfrm>
            <a:off x="7086600" y="2286000"/>
            <a:ext cx="176688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16sbccl"/>
          <p:cNvPicPr/>
          <p:nvPr/>
        </p:nvPicPr>
        <p:blipFill>
          <a:blip r:embed="rId3"/>
          <a:stretch/>
        </p:blipFill>
        <p:spPr>
          <a:xfrm>
            <a:off x="4038480" y="182880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es form when atoms gain, share, or lose electrons from their valence shell (ring farthest away from nucleus) so their structure resembles a Noble Gas which is very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tet Rule- all atoms want to have 8 valence elec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1-3 valence electrons will lose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4 valence electrons will share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5-7 valence electrons will gain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oms lose or gain electrons, they form ions, or charged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ions- positive ions formed from 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more protons than 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ons- negative ions formed fro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more electrons than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oms rearrange their electrons, they can form forces of attraction with other atoms.  These forces of attraction are called chemical bo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ed from positive and negative ions joining toge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olves a metal with a nonme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00009140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8:42:22Z</dcterms:created>
  <dc:creator>End User</dc:creator>
  <dc:description/>
  <dc:language>en-US</dc:language>
  <cp:lastModifiedBy>PA Department of Education</cp:lastModifiedBy>
  <dcterms:modified xsi:type="dcterms:W3CDTF">2009-12-16T15:49:35Z</dcterms:modified>
  <cp:revision>38</cp:revision>
  <dc:subject/>
  <dc:title>Chemical Bonding</dc:title>
</cp:coreProperties>
</file>